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CD4-2991-4CF5-BEC4-408BA37B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624-4CF6-4135-ABC5-EC07A6DD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DCE-E88F-4829-B826-8069FE9D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1DE-DB87-4EE1-99EF-DCBA580C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682-BD69-46EE-904A-03BD61DB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FD9-D4F4-4560-8DFF-E1B4A2D1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E98-7B43-45F0-8715-B5461D75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FE0-E1A3-4E7E-ACE8-E7E50D79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9FD-2BAD-437F-B52E-F9B60F2F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0B6-DCD6-46FA-BBA6-26FB2FE4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FC72-902B-4A89-BB9C-5BE53525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771-81AB-4468-A7CC-BE9739A0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0419-7DBC-48D5-AC49-8EE72D208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a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TORY OF THE CYCLO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vention of the cyclotron, physicists were limited to naturally emitted alpha particles from reactions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rry out nuclear reactions. The cyclotron created a way accelerate particles much more quickly than the natural emission to broaden the range of experiments that can be done, especially those in regard to artificial radioactiv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380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BEL PRIZE OF 1939: ERNEST  LAW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3200400"/>
            <a:ext cx="2514600" cy="29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otron uses a constant homogeneous magnetic field and a oscillating electric field with a constant frequency to accelerate particles through a circular path of increasing radi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 the gap of the dees, the electric field changes to accelerate the particle through the g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gnetic field serves to create a circular path for the parti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 "/>
          <p:cNvPicPr/>
          <p:nvPr/>
        </p:nvPicPr>
        <p:blipFill>
          <a:blip r:embed="rId1"/>
          <a:stretch/>
        </p:blipFill>
        <p:spPr>
          <a:xfrm>
            <a:off x="3581280" y="1752480"/>
            <a:ext cx="1447920" cy="238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217152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91320" y="3429000"/>
            <a:ext cx="28191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17:10:30Z</dcterms:created>
  <dc:creator>Kuhlly</dc:creator>
  <dc:description/>
  <dc:language>en-US</dc:language>
  <cp:lastModifiedBy>Kuhlly</cp:lastModifiedBy>
  <dcterms:modified xsi:type="dcterms:W3CDTF">2013-10-06T17:52:45Z</dcterms:modified>
  <cp:revision>2</cp:revision>
  <dc:subject/>
  <dc:title>Slide 1</dc:title>
</cp:coreProperties>
</file>